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AA82-D5AF-4534-8DF5-D575BB59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C0E3-70F7-46EF-B475-D47A9165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3CBD-4C97-4D57-BC99-2C3384BA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1E48-DA3E-41C3-88B0-334503EF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A5A7-7BD7-4FDF-89B4-606C0AD9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6260-48E8-453D-8B00-B3C4F874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7E91-9477-4603-B0A4-7BF76639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B03C-5898-4A4B-B1FF-C994E604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A1A0-02B7-4541-AC90-0BFC314A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4BEF-A227-4CC0-9BFD-4BC4E346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73E6-97A5-4EFF-BFD5-6834D7B5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C632-64E7-45B7-B484-4B80B647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602-D686-4F7B-AAFD-95D1CFB8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2964-F263-4AAB-B75F-E72A474C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424B-49A0-44F8-9239-8FA88FFA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8B67-285D-4E60-ACA0-805F7D00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3DE3-4BD4-4B57-B823-E57D5C13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DC22-5236-4404-B288-83FB2097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929B-6E1D-4904-9BC5-0B05275E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97DF-03C1-4CE6-8AA7-3660127E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F41F-4DDB-40F0-84F8-64331D70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9BF1-73FF-4618-83B9-8692D2FF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9E0B-9DB4-4433-BAA4-D9FA438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CE30-833D-45A4-B0FD-B227840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AE6F-E236-4FC3-836B-B4903EEE2CB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1E1A-56D8-4F97-B230-F92E65F4F91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3 (54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Мисли все по-свет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ми, Боже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лъжности по-ми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невния ми б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с надежда в Бог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яра без пред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мъки и трев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ждам свята це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Все по-тихо не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лки да търп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мене челове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буен дух присп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най-сетне м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свещен доб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ля, дух - на Б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посве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Все нагоре, Бож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ияйни висо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то всеки мож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'зря лицето 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по близ' до Твой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на светлин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ще е радост пъл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и тишин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02:12Z</dcterms:modified>
  <cp:revision>115</cp:revision>
  <dc:subject/>
  <dc:title>Slide 1</dc:title>
</cp:coreProperties>
</file>